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4B5-8581-4217-BC30-FFC04E59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92A-15A1-470F-BED2-93B57B9C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982-3548-4633-88C1-515B5738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949-3EFB-44B6-87B4-0860738B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39A-688D-4833-8878-7DFAB1CE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4B5-6F20-4649-8CFD-D96B89B0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CD4-B132-493A-9949-AD72DFD7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C0B-15A6-46EE-BE2A-E0BC031C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1CA-13AB-4384-9917-C396ACB0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A65-4958-4663-BF52-A6D38F7A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C7D-B25A-41DF-90B6-16A04132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F9D-E28E-4321-AD0A-89F90F62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A499-0F39-4513-AA22-97002DF1D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ech Plan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urriculum Goal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tudent proficiency Offic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ublish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ofessional Developmen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eacher profici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aid prep period/afterschool training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nfrastructure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oftware installe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tudent Network – Save loca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ireless acces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Funding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2 teachers 1 period/day (instructors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4 periods for each teach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c2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Monitoring/Evaluation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tap survey for teacher and studen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6:44:18Z</dcterms:created>
  <dc:creator>User</dc:creator>
  <dc:description/>
  <dc:language>en-US</dc:language>
  <cp:lastModifiedBy>User</cp:lastModifiedBy>
  <dcterms:modified xsi:type="dcterms:W3CDTF">2008-08-04T17:01:17Z</dcterms:modified>
  <cp:revision>2</cp:revision>
  <dc:subject/>
  <dc:title>Tech Plan</dc:title>
</cp:coreProperties>
</file>